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60B0-C47A-467A-9232-D03C6B63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BFCB-E631-45A5-80EF-29B0B102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64F3-4D7B-4703-B72E-ED7C837E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0C3D-C835-4FDA-939F-1094672A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87DC-C56D-45CC-B703-82CDC4EB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279F-B12D-48A1-91CF-A27663C6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EE8E-95C4-4EB3-9EB1-F0C97984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C125-AC7E-4196-928A-B0A1D826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8EE1-D26D-4D82-AF31-FFA030A8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CCB5-7508-4618-BB2D-918CA982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D1D2-F6C9-46A7-B74C-7941B1FE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0F1E-67D5-46FB-8EE0-26D49C7F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EDEF-0F1A-49C7-8D1A-74AEE492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0AAE-E426-4779-A5C5-80E4DF53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3BFD-6699-4507-AAA8-355C62F0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1574-23F2-42ED-A831-09711236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49CF-AEBD-4A10-873C-3950D110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25D7A0-8D8D-4EA2-BBC9-FFE02753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A57B9-291B-47DF-9CCC-4BF78B34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4705E7-4610-4001-B8C9-877B7DD7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0F00D4-1BB1-424D-AF67-527C0CD2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A2209-86C1-47A3-B199-00B3BA0D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4A65-320F-4F22-B00C-E5F00B22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1B9321-5AC3-47AA-8955-4EE4E12F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941055-E1BE-4349-9168-B6EAF824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26A829-8B17-4C65-A516-F2D4E5EE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FAB93F-E949-4444-8685-EAF86370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9A11E1-4672-4969-AA78-8D3FAD0B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56F939-BC4E-457F-826E-4B01C8F3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2FF4C-A0B0-40B1-B2B4-E186C7CB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F4E18-0C45-4870-AA87-D6F1B7DE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BB609-8589-4F42-A53D-73C32D2A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B350F-7FAC-427E-A865-FF139370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F6E7-8DA8-4E0E-BA2C-B674C9BA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D1C25-7A2C-42E8-AB1B-625EB5F5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21C6F-8AB3-4D85-B46F-339FB565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B892B-20CF-4DA7-998C-55AE9122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03376-7FAC-4D86-9FBA-BFB5DEBF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98C82-EDD8-4CDE-805E-55C30458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DBE37-7928-4911-BA48-F6D2F06A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AEEA2-88FD-4A91-94E1-AEFB1D45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E4AAD-6D93-4255-9C37-1877C0DB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A36B2-7AA4-48AC-BA4C-8FDC819A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178797-8CAB-4AA3-A940-D7357981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2D02-7B11-4E43-A5A3-422136E0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EBE10F-9C9A-4F8F-B2AA-E07002F1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02DDC7-9C51-43B8-B377-6D2FD7E3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B20167-8D32-4148-9B0F-EAE75036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3BBA88-7A4B-47EB-B2B7-5FAFF5ED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C6743D-23AB-4AA1-989E-23B2719C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652976-AC25-40BD-86A8-00C4317E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4700BE-B5F2-4FE0-8BAC-5723DBFF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1DEBD8-AA53-4C15-8904-F2905D81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AB88EE-69AE-4596-AE19-5C46B56D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C221CE-3E64-4E89-965E-EA52E6CC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8DD3-E7A0-440F-A984-8EC89A07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B176CA-F3D5-43DB-A5E3-E6A01AE8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28D662-5364-4B50-A08D-782892CB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B49802-2564-498C-B0ED-E8C6D25B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B18891-EC8C-4A7C-924E-53B48B7E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AFFECE-BE1A-4541-AB8B-BB8F9913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4BEF99-66B8-44B8-9B3E-053E1573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D2984E-0DAB-4C05-B299-CF2C4E8D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9355A9-B627-4361-8CE8-D1C9093D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BE6A9B-5BA8-4485-888F-71E15EB8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D763CE-43A9-4793-9DC1-618F71CF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5D3-EDF3-468F-966B-FA9DC2FB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C2A929-E068-408A-984C-B8F1ADA9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FABB64-DD3C-4234-9498-3FFE3B8D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24A47F-E206-4D55-98B0-E62B012C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B7E61E-F60E-466E-B0AF-302AEA1E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D68E29-3C68-4D79-8306-9B19EE55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2EF8E2-1AA1-4CE9-A201-48206EBB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0F50C3-CA85-44B4-B037-3C898F95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F70658-440B-436B-82A1-4D35659C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4A804B-273D-4E95-A207-247A3AD4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1BB553-2C2C-4508-8A03-D6E57833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5FB9-5C26-4E32-A02C-A3C2C490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4529F2-A2F5-4E9C-B42F-23A92C97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6AE05C-323B-4C4D-A5CE-924FDC21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926BF9-5B41-423D-9F07-F14C6377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A98382-2245-4437-B6CB-F0CF2189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5FFB89-908D-4A59-84BE-0C61EBAF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4D98-E413-42F3-8320-F205CD91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D9CD-52EA-4A15-9AD6-3A658BF7ED8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bfc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d7e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d7e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ecf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bfc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ecf0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bfc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bfc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54E4-7E0B-4413-8BE6-EFDE36CFFD7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23B4-8944-4260-8A64-299D7BC481B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bfc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d7e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d7e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ecf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bfc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ecf0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bfc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bfc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e9e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de9ec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de9ec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e9ec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1373-2ED4-4FD0-9704-1AB91018290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74BC-CFB9-4399-8151-47DFA61BDEC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16A6-DADC-4E19-BFFC-6A70889EA9B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972A-91C3-425B-8FB4-85FB3F96A54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52480" y="1371600"/>
            <a:ext cx="7391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53"/>
                </a:solidFill>
                <a:latin typeface="Century Schoolbook"/>
                <a:ea typeface="宋体"/>
              </a:rPr>
              <a:t>EMPLOYMENT STATUS AT OLDER AGES IN ROMANIA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419720" y="434340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53"/>
                </a:solidFill>
                <a:latin typeface="Century Schoolbook"/>
                <a:ea typeface="宋体"/>
              </a:rPr>
              <a:t>Asta Zvinien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53"/>
                </a:solidFill>
                <a:latin typeface="Century Schoolbook"/>
                <a:ea typeface="宋体"/>
              </a:rPr>
              <a:t>Sr. Social Protection Speciali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53"/>
                </a:solidFill>
                <a:latin typeface="Century Schoolbook"/>
                <a:ea typeface="宋体"/>
              </a:rPr>
              <a:t>The World Bank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53"/>
                </a:solidFill>
                <a:latin typeface="Century Schoolbook"/>
                <a:ea typeface="宋体"/>
              </a:rPr>
              <a:t>May 9</a:t>
            </a:r>
            <a:r>
              <a:rPr b="1" lang="en-US" sz="2000" spc="-1" strike="noStrike" baseline="30000">
                <a:solidFill>
                  <a:srgbClr val="464653"/>
                </a:solidFill>
                <a:latin typeface="Century Schoolbook"/>
                <a:ea typeface="宋体"/>
              </a:rPr>
              <a:t>th</a:t>
            </a:r>
            <a:r>
              <a:rPr b="1" lang="en-US" sz="2000" spc="-1" strike="noStrike">
                <a:solidFill>
                  <a:srgbClr val="464653"/>
                </a:solidFill>
                <a:latin typeface="Century Schoolbook"/>
                <a:ea typeface="宋体"/>
              </a:rPr>
              <a:t>, 2014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7560" y="2133360"/>
            <a:ext cx="739116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53"/>
                </a:solidFill>
                <a:latin typeface="Century Schoolbook"/>
                <a:ea typeface="宋体"/>
              </a:rPr>
              <a:t>THANK YOU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53"/>
                </a:solidFill>
                <a:latin typeface="Century Schoolbook"/>
              </a:rPr>
              <a:t>URBAN / RURAL DIVIDE IN EMPLOYMENT STATUS</a:t>
            </a:r>
            <a:br>
              <a:rPr sz="2700"/>
            </a:br>
            <a:endParaRPr b="0" lang="en-US" sz="2700" spc="-1" strike="noStrike">
              <a:solidFill>
                <a:srgbClr val="464653"/>
              </a:solidFill>
              <a:latin typeface="Century Schoolbook"/>
            </a:endParaRPr>
          </a:p>
        </p:txBody>
      </p:sp>
      <p:pic>
        <p:nvPicPr>
          <p:cNvPr id="354" name="Content Placeholder 3" descr=""/>
          <p:cNvPicPr/>
          <p:nvPr/>
        </p:nvPicPr>
        <p:blipFill>
          <a:blip r:embed="rId1"/>
          <a:stretch/>
        </p:blipFill>
        <p:spPr>
          <a:xfrm>
            <a:off x="304920" y="1298520"/>
            <a:ext cx="807696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POTENTIAL OF VARIOUS GROUPS TO INCREASE EMPLOYMEN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pic>
        <p:nvPicPr>
          <p:cNvPr id="356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74674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IMPACT OF EDUCATION ON EARLY RETIREMEN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pic>
        <p:nvPicPr>
          <p:cNvPr id="358" name="Content Placeholder 3" descr=""/>
          <p:cNvPicPr/>
          <p:nvPr/>
        </p:nvPicPr>
        <p:blipFill>
          <a:blip r:embed="rId1"/>
          <a:stretch/>
        </p:blipFill>
        <p:spPr>
          <a:xfrm>
            <a:off x="378000" y="1523880"/>
            <a:ext cx="8308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OSER LOOK AT OLDER POPULATION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pic>
        <p:nvPicPr>
          <p:cNvPr id="360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74674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LEADING CAUSES OF DISABILITY, 2013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pic>
        <p:nvPicPr>
          <p:cNvPr id="362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78454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53"/>
                </a:solidFill>
                <a:latin typeface="Century Schoolbook"/>
              </a:rPr>
              <a:t>OPINIONS: PEOPLE SHOULD BE ABLE TO CONTINUE WORKING AFTER PENSION ELIGIBILITY </a:t>
            </a:r>
            <a:endParaRPr b="0" lang="en-US" sz="2700" spc="-1" strike="noStrike">
              <a:solidFill>
                <a:srgbClr val="464653"/>
              </a:solidFill>
              <a:latin typeface="Century Schoolbook"/>
            </a:endParaRPr>
          </a:p>
        </p:txBody>
      </p:sp>
      <p:pic>
        <p:nvPicPr>
          <p:cNvPr id="364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74674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OPINIONS: WOULD LIKE TO WORK LONGER, INTERESTED IN PARTIAL RETIREMEN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pic>
        <p:nvPicPr>
          <p:cNvPr id="366" name="Content Placeholder 10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3809880" cy="4870440"/>
          </a:xfrm>
          <a:prstGeom prst="rect">
            <a:avLst/>
          </a:prstGeom>
          <a:ln w="0">
            <a:noFill/>
          </a:ln>
        </p:spPr>
      </p:pic>
      <p:pic>
        <p:nvPicPr>
          <p:cNvPr id="367" name="Chart 11" descr=""/>
          <p:cNvPicPr/>
          <p:nvPr/>
        </p:nvPicPr>
        <p:blipFill>
          <a:blip r:embed="rId2"/>
          <a:stretch/>
        </p:blipFill>
        <p:spPr>
          <a:xfrm>
            <a:off x="4419720" y="1603440"/>
            <a:ext cx="37306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TO SUMMARIZE: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04560" y="1143000"/>
            <a:ext cx="83818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ost of informal economy is rural non-cash economy, very hard to formaliz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In urban setting HALF of people without jobs are aged 55-64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arly retirement is more prevalent among less educated, HALF of which happens through disability progra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roportion of population without a job or pension DECREASES with age, so pension eligibility criteria could be tightene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pproval of work at older ages is at 30%-40% and can reach 70% among older more educated people, especially wome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emand for partial retirement is especially strong among older women, but the number of partial contracts is low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 easiest way to achieve tangible results is by finding ways to postpone full retiremen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4:03:59Z</dcterms:created>
  <dc:creator>wb23018</dc:creator>
  <dc:description/>
  <dc:language>en-US</dc:language>
  <cp:lastModifiedBy>Asta Zviniene</cp:lastModifiedBy>
  <dcterms:modified xsi:type="dcterms:W3CDTF">2014-05-08T23:35:12Z</dcterms:modified>
  <cp:revision>327</cp:revision>
  <dc:subject/>
  <dc:title>Rethinking social insurance</dc:title>
</cp:coreProperties>
</file>